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4DF-C327-44EC-9725-2EDD4257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CF1-2790-4F2B-8BCE-7DACF24D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F47-329B-407C-BBF6-3E9122DD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CBB-23A9-450D-837A-154C37AB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CEA-1C8B-4EEA-9582-F58786DB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E0C-6438-4B00-B432-6C6B3D81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A8F-A870-44EA-9DE8-B649070C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69F-BA96-44E1-93BF-E4D8D812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47B-AB93-4D8D-8ABD-E4AE1073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667-26A9-4AAF-81A5-FB0FFBC1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1A7-E3D7-4959-85CD-BB26FD1B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47E-48FE-4048-BBE3-E1F03B0A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342E-EDED-40DC-9FC4-CD5D87E9F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in 1809 died in 18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Wilkes Both killed Abraham Lincol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a log cab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one of the truly great men of a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ed the United States during the Civil War 1861 to18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1732 died in17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called the Father of our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’s birthplace on Pope’s creek in Westmoreland Coun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ad hippopotamus ivory for fake te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ed  the Continental Ar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hington and Lincoln’s Pi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33880" y="4118040"/>
            <a:ext cx="4110120" cy="2739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152280" y="4257720"/>
            <a:ext cx="5029200" cy="26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1822320" cy="264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828800" y="1676520"/>
            <a:ext cx="6781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53:41Z</dcterms:created>
  <dc:creator>Carolyn Spielmann</dc:creator>
  <dc:description/>
  <dc:language>en-US</dc:language>
  <cp:lastModifiedBy>Carolyn Spielmann</cp:lastModifiedBy>
  <dcterms:modified xsi:type="dcterms:W3CDTF">2010-02-02T20:19:43Z</dcterms:modified>
  <cp:revision>6</cp:revision>
  <dc:subject/>
  <dc:title>Comparing presidents</dc:title>
</cp:coreProperties>
</file>